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4B84-53BF-46A9-B2BA-53AA92720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22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43C3-B03D-428A-AC09-5EFF52564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7D6D-5D24-4FAF-BBE2-C7F5E8007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B353-601C-40A3-BB6E-B9A1655F8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DD824-F28F-44B9-9E87-3DBAE8C51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197B2-A42D-4AB7-8DC6-32EAF699C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0C7E5-9FF4-4CED-AF4D-F05CA8ADB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93EB8-583B-4651-9137-5BDE64B89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C31F8-4D23-4CA0-B189-3EC8A3761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86A49-A5CF-45CE-BC2A-36BBEA1A9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7D9FD-26ED-431D-B61E-FD7A7A6F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5C28-8C4D-4B2C-BF59-1B4CE6597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45B46-A64E-4173-AE9D-3A863025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DD120-7C6F-46A2-A400-458BD758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22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EB33E-2A4D-4087-99FF-9C5C41BB9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881C0-500B-475F-9314-E2CDB40BD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C9956-DAB5-478A-BB9C-78A184E2D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A442-FE41-4E0A-8E62-289F21332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6B2C-D8B2-4468-B17A-F7194CE00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6278-BE5F-45C4-8DC9-20DB5619D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F846-85F6-4019-9450-2D31FCBBB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D06D-099D-49E5-B1C2-B1219B80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7B59-0828-4956-A9EC-39CA7E75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49C4-34E0-48DE-8394-49A96ADE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1AD1C-05BC-46E2-873B-20E4A4B2B9B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2E50B-915D-47F5-B3F2-63707EDF1C0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allgraf.net/uploads/posts/2009-05/1241827697_2-school-board.jpg" TargetMode="External"/><Relationship Id="rId3" Type="http://schemas.openxmlformats.org/officeDocument/2006/relationships/hyperlink" Target="http://files.vector-images.com/clipart/schoolsupplies_gk1.gif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56800" y="1000080"/>
            <a:ext cx="7000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071720" y="2714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втор данного шаблон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Ермолаева Ирина Алекс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учитель информатики и математ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ОУ «Павловская сош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.Павлов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лтайский кр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643040" y="1600200"/>
            <a:ext cx="704376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allgraf.net/uploads/posts/2009-05/1241827697_2-school-board.jp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files.vector-images.com/clipart/schoolsupplies_gk1.gi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3" descr=""/>
          <p:cNvPicPr/>
          <p:nvPr/>
        </p:nvPicPr>
        <p:blipFill>
          <a:blip r:embed="rId4"/>
          <a:stretch/>
        </p:blipFill>
        <p:spPr>
          <a:xfrm>
            <a:off x="428760" y="1571760"/>
            <a:ext cx="121428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30T18:26:11Z</dcterms:created>
  <dc:creator>Comp</dc:creator>
  <dc:description/>
  <dc:language>en-US</dc:language>
  <cp:lastModifiedBy>Comp</cp:lastModifiedBy>
  <dcterms:modified xsi:type="dcterms:W3CDTF">2011-07-30T18:31:55Z</dcterms:modified>
  <cp:revision>3</cp:revision>
  <dc:subject/>
  <dc:title>Слайд 1</dc:title>
</cp:coreProperties>
</file>