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D9B8-6DD9-414F-B45B-565B7F708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94F2-84E5-408D-A81E-8D9461B7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7308-C3C6-4118-86D6-240D13A19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B940-E57D-451A-A741-E190BA400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BD85-0666-4D7D-BC45-C3D2FA4AB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6B65-02D9-4301-9FB4-CF26B46D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2AEF-0E61-4A23-BC54-5D2E9859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54F0-3589-4984-9E46-B8F73CF6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FDA6-4E49-4B4A-8232-BDD5A987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9D83-8277-4270-B533-52CA3054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CCF3-5F2D-4B9D-B126-2159CD80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93CE-6E61-4395-BDB1-E03ABDE7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8AE6-A787-4020-BBC0-EEF249A4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A73B-0FCA-4B66-9735-58E64261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E48E-4DE2-4DF7-BFE8-6D3A9444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92D8-A71B-477F-AE32-58B039AAA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FEA7-7BFE-4D14-9E06-A34F5755B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EFC5-E5C3-4533-856B-34CDF566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0C57-5679-4D57-8CC3-4EEE9A08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E7DA-0D54-4C47-8A34-586DAEB4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A15F-F1D1-4017-B04C-C39A2585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C7C5-03C4-438D-B74D-C0E06FF3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B257-1FAF-4A93-95EB-39F92FC0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226E-18EA-4E55-B048-B080D408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33F5-1703-4ECA-A10D-481F4FAE1B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000240" y="571680"/>
            <a:ext cx="5643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Сегодня на урок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6258-B53B-4146-84DD-6CB3BBBD73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71520" y="1928520"/>
            <a:ext cx="5600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429000" y="3571920"/>
            <a:ext cx="514368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.Павлов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лтай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1643040" y="1600200"/>
            <a:ext cx="704376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http://patcollinscm.webs.com/globe2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74202s031.edusite.ru/images/risunok1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i016.radikal.ru/0805/11/baa91c67ab38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map-world.ru/geo-small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d:\Мои документы\Мои рисунки\risunok1.png"/>
          <p:cNvPicPr/>
          <p:nvPr/>
        </p:nvPicPr>
        <p:blipFill>
          <a:blip r:embed="rId2"/>
          <a:stretch/>
        </p:blipFill>
        <p:spPr>
          <a:xfrm>
            <a:off x="714240" y="2571840"/>
            <a:ext cx="642960" cy="633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d:\Мои документы\Мои рисунки\globe2.png"/>
          <p:cNvPicPr/>
          <p:nvPr/>
        </p:nvPicPr>
        <p:blipFill>
          <a:blip r:embed="rId3"/>
          <a:stretch/>
        </p:blipFill>
        <p:spPr>
          <a:xfrm>
            <a:off x="785880" y="1571760"/>
            <a:ext cx="617400" cy="785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Documents and Settings\User\Рабочий стол\картинки на школьныю тему\Рисунок2.png"/>
          <p:cNvPicPr/>
          <p:nvPr/>
        </p:nvPicPr>
        <p:blipFill>
          <a:blip r:embed="rId4"/>
          <a:stretch/>
        </p:blipFill>
        <p:spPr>
          <a:xfrm>
            <a:off x="642960" y="3429000"/>
            <a:ext cx="806400" cy="857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428760" y="4643280"/>
            <a:ext cx="13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ографическая кар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1T15:55:29Z</dcterms:created>
  <dc:creator>Comp</dc:creator>
  <dc:description/>
  <dc:language>en-US</dc:language>
  <cp:lastModifiedBy>Comp</cp:lastModifiedBy>
  <dcterms:modified xsi:type="dcterms:W3CDTF">2011-07-31T16:42:02Z</dcterms:modified>
  <cp:revision>8</cp:revision>
  <dc:subject/>
  <dc:title>Слайд 1</dc:title>
</cp:coreProperties>
</file>